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8F01-DE19-4906-A347-C1E17640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85E-82A7-4138-93C7-9B9FB610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4B92-0AD1-4C17-9C60-3F19DFE4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0E54-A73F-43E4-9461-9A2EF30F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7606-6502-4646-98F3-3C3E556F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097-D09E-4618-810B-7C0CC241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8238-1912-436A-BA26-9D87EAE0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F399-AD78-4634-8863-51F58A74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08F7-ADB0-4C64-ACB1-0B5ADB54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9FE-20ED-44C1-8F95-D75F3D5B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397B-B30F-4E80-BEE2-799048C0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E6ED-FD5B-4815-BA9A-8BB6FF6F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1B6C-E3C3-4DC2-8A68-DB51F9A28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LHO NACIONAL DE RECURSOS HIDRÍCOS</a:t>
            </a:r>
            <a:br>
              <a:rPr sz="3600"/>
            </a:b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ÂMARA TÉCNICA DE INTEGRAÇÃO DE PROCEDIMENTOS, AÇÕES DE OUTORGA E AÇÕES REGULADORAS - CTPO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4266720"/>
            <a:ext cx="71625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6600"/>
                </a:solidFill>
                <a:latin typeface="Arial"/>
              </a:rPr>
              <a:t>RESOLUÇÃO DO ESTADO DO PARANÁ QUE COMPATIBILIZA OS PROCEDIMENTOS DE OUTORGA E LICENCIAMENTO 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milio Trevis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9/04/2004</a:t>
            </a:r>
            <a:r>
              <a:rPr b="0" lang="pt-BR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352680" y="38088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utorga Pré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676520"/>
            <a:ext cx="2590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icença Pré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971800"/>
            <a:ext cx="3733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icença de Insta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403848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Outorga de Direito de 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4038480"/>
            <a:ext cx="426708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53341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icença de Ope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5334120"/>
            <a:ext cx="350496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533520"/>
            <a:ext cx="25146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828800"/>
            <a:ext cx="24382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971800"/>
            <a:ext cx="365760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609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DERH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10280" y="4114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DERH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1828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3048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5410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RESOLUÇÃO nº 003/04-SEMA</a:t>
            </a:r>
            <a:r>
              <a:rPr b="1" lang="pt-BR" sz="2000" spc="-1" strike="noStrike">
                <a:solidFill>
                  <a:srgbClr val="ff6600"/>
                </a:solidFill>
                <a:latin typeface="Arial"/>
                <a:ea typeface="Arial"/>
              </a:rPr>
              <a:t>                          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(DOE em 03/02/2004)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O SECRETÁRIO DO ESTADO DE MEIO AMBIENTE E RECURSOS HÍDRICOS, no uso das atribuições que lhe serão conferidas pela Lei n° 10.066, de.07.92, Lei n° 11.352, de 13.02.96, Lei n° 8.485, de 03.06.87, pelo Decreto n° 4.514 de 23.07.01 e Decreto n° 11, de 01.01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siderando a necessidade de integração de procedimentos dos instrumentos da Política Estadual de Recursos Hídricos e da Política Estadual de Meio Ambie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siderando a necessidade de estabelecer os procedimentos a serem adotados para a emissão de Outorga Prévia e a Outorga de Direito de Uso de Recursos Hídricos com a finalidade de integrá-los ao procedimento de Licenciamento Ambient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ol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Art. 1º. Estabelecer procedimentos de integração para emissão da Outorga Prévia, da Outorga de Direito de Uso de Recursos Hídricos e para o Licenciamento Ambiental entre os órgãos do  Sistema S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. 2º. Para fins desta Resolução, serão adotadas as seguintes definiçõ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– Licença Prévia: é a licença concedida na fase preliminar do planejamento de empreendimento ou atividade aprovando sua localização e concepção, atestando a viabilidade ambiental e estabelecendo os requisitos básicos e condicionantes a serem atendidos nas próximas fases de sua implement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 – Licença de Instalação: é a licença que autoriza a instalação do empreendimento ou atividade de acordo com as especificações constantes dos planos, programas e projetos aprovados, incluindo as medidas de controle ambiental e demais condicionantes, da qual constituem motivo determina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I – Licença de Operação: autoriza a operação da atividade ou empreendimento, após a verificação do efetivo cumprimento do que consta das licenças anteriores, com as medidas de controle ambiental e condicionantes determinadas para a oper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V – Outorga Prévia: ato administrativo com finalidade de declarar a disponibilidade de água para os usos requeridos, que não confere direito de uso de recursos hídricos e se destina a reservar a vazão passível de outorga, possibilitando, aos investidores, o planejamento de empreendimentos que necessitem desses recurs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 – Outorga de Direito de Uso de Recursos Hídricos: ato administrativo mediante o qual o órgão gestor de recursos hídricos faculta ao requerente o direito de uso dos recursos hídricos, por prazo determinado, nos termos e condições expressas no respectivo ato, consideradas as legislações específicas vig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6600"/>
                </a:solidFill>
                <a:latin typeface="Arial"/>
                <a:ea typeface="Arial"/>
              </a:rPr>
              <a:t>Art. 3º. No procedimento de Licenciamento Ambiental para atividades, empreendimentos, obras e intervenções utilizadoras de recursos hídricos capazes, sob qualquer forma, de causar degradação ambiental, deverá constar, obrigatoriamente, a Outorga Prévia e a Outorga de Direito de Uso dos Recursos Hídricos, emitidas pela SUDERHSA, sem prejuízo de outras licenças, autorizações e concessões perti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§ 1º. Nos procedimentos de integração de Licenciamento Ambiental e Outorga, os estudos a serem apresentados pelo empreendedor deverão ser elaborados de forma a atender as exigências articuladas entre a SUDERHSA e o I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pt-BR" sz="2000" spc="-1" strike="noStrike">
                <a:solidFill>
                  <a:srgbClr val="ff6600"/>
                </a:solidFill>
                <a:latin typeface="Arial"/>
                <a:ea typeface="Arial"/>
              </a:rPr>
              <a:t>§ 2º. A Outorga Prévia emitida pela SUDERHSA será apresentada pelo requerente ao IAP ao solicitar a Licença Prévia em se tratando de empreendimentos, atividades ou obras que necessitem de:</a:t>
            </a:r>
            <a:r>
              <a:rPr b="0" lang="pt-BR" sz="20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 - derivação ou captação de parcela da água existente em um corpo de água para consumo final, inclusive abastecimento público, ou insumo de processo produtiv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I - extração de água de aqüífero subterrâneo para consumo final, inclusive abastecimento público, ou insumo de processo produtiv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II - lançamento em corpo de água de esgotos e demais resíduos líquidos ou gasosos, tratados ou não, com o fim de sua diluição, transporte ou disposição fin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V – usos de recursos hídricos para aproveitamento de potenciais hidrelétric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V – intervenções de macrodrenagem urbana para retificação, canalização, barramento e obras similares que visem ao controle de chei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VI - outros usos e ações e execução de obras ou serviços necessários a implantação de qualquer intervenção ou empreendimento, que demandem a utilização de recursos hídricos, ou que impliquem em alteração, mesmo que temporária, do regime, da quantidade ou da qualidade da água, superficial ou subterrânea, ou, ainda, que modifiquem o leito e margens dos corpos de á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Art. 4º. Quando do pedido de Outorga de Direito de Uso de Recursos Hídricos deverá ser apresentada, pelo requerente, a Licença de Instalação ou a Autorização Ambiental, emitidas pelo I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5º. Para os empreendimentos existentes que já tenham Licença de Instalação ou de Operação e que não tenham a Outorga, sendo ela necessária, o requerente deverá regularizar a situação junto a SUDERH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Art 6º. A Licença de Operação será concedida pelo IAP após a emissão da Outorga de Direito de Uso de Recursos Hí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Art.7º. A Outorga Prévia para o lançamento de efluentes estará condicionada às  concentrações aceitáveis de parâmetros exigidas pelo I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8º. Nos casos de renovação de Licença de Operação, em que o IAP necessite exigir do requerente modificação em seu empreendimento que afete os usos múltiplos e altere as características de regime, de quantidade ou de qualidade da captação da água ou do lançamento de efluentes, a SUDERHSA deverá ser consultada previamente e o requerente deverá solicitar a SUDERHSA a alteração de sua Outor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9º. A SUDERHSA, quando da análise da renovação da Outorga, informará ao IAP as conclusões alcançadas e as possíveis alterações nas condições de Outorga, para definição das providências necessár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10. Qualquer alteração nos dados técnicos ou operacionais do empreendimento quando houver a utilização dos recursos hídricos e as suas possíveis interferências em outros usos, deverá ser submetida à análise da SUDERHSA e do I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t. 11. Esta Resolução entrará em vigor na data de sua public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itiba, 20 de janeiro de 200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UIZ EDUARDO CHE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ário do Estado de Meio Ambiente e Recursos Hí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2:59:21Z</dcterms:created>
  <dc:creator>Ramon</dc:creator>
  <dc:description/>
  <dc:language>en-US</dc:language>
  <cp:lastModifiedBy>Ramon</cp:lastModifiedBy>
  <dcterms:modified xsi:type="dcterms:W3CDTF">2004-04-27T14:41:14Z</dcterms:modified>
  <cp:revision>12</cp:revision>
  <dc:subject/>
  <dc:title>CONSELHO NACIONAL DE RECURSOS HIDRÍCOS  CÂMARA TÉCNICA DE INTEGRAÇÃO DE PROCEDIMENTOS, AÇÕES DE OUTORGA E AÇÕES REGULADORAS - CTPOAR</dc:title>
</cp:coreProperties>
</file>